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29D-F4A0-4739-9146-339A44D9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D6F-5BD9-45CE-B536-4339D18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A28-837F-4A70-BB3D-971A660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5AF-00B1-4676-96BC-D50AB62D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2BD9-FF63-4F31-9674-86C74CBA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758E-60B4-4FBD-85D8-E1AB010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767-DD88-4DAD-824C-44C12089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73E-1307-4982-AC17-02742F7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A9D9-5D04-4264-A6A5-A29AFEF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6E7-F749-4405-BDF7-33381D46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4E4-2419-4709-88A4-2E95913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5B3-0E4F-40FA-9A36-A286C15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319A-0B02-417F-896A-F61DF5BE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0193-4BC7-41D0-A68F-1013512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F31-4672-4569-AAD5-3C922200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C3E-D4EB-49A8-B4AD-E2365074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F607-3CB7-4A0F-92F7-6CE26D4F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595-724D-40F1-936B-7514490A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CEC-328F-4E85-87FD-4D66E59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45A-8923-4984-B3B7-07802C9A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761-8111-443C-9E67-D6A5806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084-AEC2-4C72-B621-6803F46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444-E0EB-439C-984E-9B65CAC4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B0E-7BD4-4E61-A35D-C798091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CBDE-4A85-4532-B2E7-D9A8F19BFD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6B86-7ED5-477B-BA24-3A590DA2B3A1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6e02"/>
                </a:solidFill>
                <a:latin typeface="Arial Black"/>
              </a:rPr>
              <a:t>World War Two</a:t>
            </a:r>
            <a:endParaRPr b="0" lang="en-US" sz="48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Basic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lips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W2 in HD, start of war (3:50-12:50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W2 in HD, Holocaust (11:40-19:30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and of Brothers, Liberation clip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Start of the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0663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9-1-1939: Germany invaded Poland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litzkrieg = lightning war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ow countries &amp; France fall by June 1940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apan has taken over Manchuria moving to knock-out U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attle of Britain: aerial defense of England by RAF keeps Britain aliv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he Blitz destroys much of London . . .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rmans are eventually driven back across N. Afrika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0" name="Picture 6" descr="spitfire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Turning Points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grad: USSR defeats Nazis in a 9 month horror (could have been the end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-day landings: Beaches of Normandy are invaded by Allied force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eginning of the last final push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sland hopping: Guam, Philippines, Iwo Jima, Guadalcana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3" name="Picture 6" descr="aa_marshall_dday_3_e"/>
          <p:cNvPicPr/>
          <p:nvPr/>
        </p:nvPicPr>
        <p:blipFill>
          <a:blip r:embed="rId1"/>
          <a:stretch/>
        </p:blipFill>
        <p:spPr>
          <a:xfrm>
            <a:off x="5715000" y="4102200"/>
            <a:ext cx="3429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oncluding the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itler kills himself as Soviets take the city of Berlin (Eisenhower let them take it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-bombs and Soviet threats knock Japan out of the wa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SSR is clearly a 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reat and is not abl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o be trusted 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(Cold War begins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6" name="Picture 6" descr="P-ABombSfter10seconds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1674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rds.yahoo.com/_ylt=A9iby6L0imNGdBEBbkyjzbkF/SIG=12904jru3/EXP=1181015156/**http%3A/207.150.180.135/images/en/0/03/NatoAndPact.png"/>
          <p:cNvPicPr/>
          <p:nvPr/>
        </p:nvPicPr>
        <p:blipFill>
          <a:blip r:embed="rId1"/>
          <a:stretch/>
        </p:blipFill>
        <p:spPr>
          <a:xfrm>
            <a:off x="1752480" y="2743200"/>
            <a:ext cx="58676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2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Impact of the Cold War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olarized War: America v. USS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Both create alliances NATO v. Warsaw Pact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ntainment: stop the spread of communism throughout the world (Truman Doctrine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omino Theory: Once one nation falls to communism, they all will!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ntainment in action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Marshall Plan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Korea, Vietnam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21" name="Picture 2" descr="http://rds.yahoo.com/_ylt=A9iby4TTimNGB3MA30WjzbkF/SIG=12m6nrukc/EXP=1181015123/**http%3A/images.salon.com/news/feature/2001/04/03/cold_war/story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rds.yahoo.com/_ylt=A9iby4CCi2NGCgQAkECjzbkF/SIG=12k2s727n/EXP=1181015298/**http%3A/www.pacamera.com/memberGalleries/shpall/domino_theory.jpg"/>
          <p:cNvPicPr/>
          <p:nvPr/>
        </p:nvPicPr>
        <p:blipFill>
          <a:blip r:embed="rId3"/>
          <a:stretch/>
        </p:blipFill>
        <p:spPr>
          <a:xfrm>
            <a:off x="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Agree/Disagree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government should spend money during times of depression to help the economy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interests of the majority are more important than individual right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Religions and unions make people less American and less trustworthy to the governm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Presentations: </a:t>
            </a:r>
            <a:br>
              <a:rPr sz="4000"/>
            </a:br>
            <a:r>
              <a:rPr b="0" lang="en-US" sz="3200" spc="-1" strike="noStrike">
                <a:solidFill>
                  <a:srgbClr val="fe6e02"/>
                </a:solidFill>
                <a:latin typeface="Arial Black"/>
              </a:rPr>
              <a:t>4-7 notes, 1 image &amp; event for Timeline</a:t>
            </a:r>
            <a:endParaRPr b="0" lang="en-US" sz="32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ermany sparks . . . – Battle of Britain (925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ritain – US Aids Allies (927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arl Harbor – Allies Strike Back (931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lies Strike back – end (934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locaus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ide Turns (941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Victory in Europe (943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478080" indent="-478080">
              <a:spcBef>
                <a:spcPts val="799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Victory in the Pacific (945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What do you know?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re are four people, four battles and two weapon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ith a partner, sort these names into there correct categorie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Rommel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Midway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Spitfir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wo Jim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Patto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Normandy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Yamamoto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Panze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- De Gaul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USSR – Soviet Union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 (a communist) blames previous government and capitalist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rces people to work on collectives (farms) &amp; 5 Year Plans (increase factory output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te ownership, revolutionary ideal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bout 13 million soviets die under his rule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2" name="Picture 7" descr="20020726_ussr_flag"/>
          <p:cNvPicPr/>
          <p:nvPr/>
        </p:nvPicPr>
        <p:blipFill>
          <a:blip r:embed="rId1"/>
          <a:stretch/>
        </p:blipFill>
        <p:spPr>
          <a:xfrm>
            <a:off x="3352680" y="5095800"/>
            <a:ext cx="235116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Lenin_and_Stalin_1922"/>
          <p:cNvPicPr/>
          <p:nvPr/>
        </p:nvPicPr>
        <p:blipFill>
          <a:blip r:embed="rId2"/>
          <a:stretch/>
        </p:blipFill>
        <p:spPr>
          <a:xfrm>
            <a:off x="4343400" y="1447920"/>
            <a:ext cx="4800600" cy="5410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Joseph Stalin"/>
          <p:cNvPicPr/>
          <p:nvPr/>
        </p:nvPicPr>
        <p:blipFill>
          <a:blip r:embed="rId3"/>
          <a:stretch/>
        </p:blipFill>
        <p:spPr>
          <a:xfrm>
            <a:off x="0" y="1447920"/>
            <a:ext cx="4343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Italy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enito Mussolini (</a:t>
            </a:r>
            <a:r>
              <a:rPr b="0" i="1" lang="en-US" sz="3200" spc="-1" strike="noStrike">
                <a:solidFill>
                  <a:srgbClr val="ff9933"/>
                </a:solidFill>
                <a:latin typeface="Arial"/>
              </a:rPr>
              <a:t>Il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uce) leads fascists to power (state above individual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rivate property &amp; rights</a:t>
            </a:r>
            <a:endParaRPr b="0" lang="en-US" sz="2800" spc="-1" strike="noStrike">
              <a:solidFill>
                <a:srgbClr val="ff9933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rong government rules</a:t>
            </a:r>
            <a:endParaRPr b="0" lang="en-US" sz="2400" spc="-1" strike="noStrike">
              <a:solidFill>
                <a:srgbClr val="ff99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ught against: unemployment, inflation &amp; strikes (blames the poor and communists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oves strength by attacking the weak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97" name="Picture 5" descr="mussolini1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asces"/>
          <p:cNvPicPr/>
          <p:nvPr/>
        </p:nvPicPr>
        <p:blipFill>
          <a:blip r:embed="rId2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Germany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itler leads National Socialist German Workers party or Nazis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ants to unite all German peoples/Great again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lebensraum “living space”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reate a pure Aryan race/Why else would he oppose the Jewish people?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1933 – Chancellor Hitler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rt of the Third Reich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01" name="Picture 5" descr="hitler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5410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wcdnazi031103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eurasia-map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6e02"/>
                </a:solidFill>
                <a:latin typeface="Arial Black"/>
              </a:rPr>
              <a:t>Crash Course – WW2</a:t>
            </a:r>
            <a:endParaRPr b="0" lang="en-US" sz="4000" spc="-1" strike="noStrike">
              <a:solidFill>
                <a:srgbClr val="fe6e0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ick three concepts from the list and be ready to explain them after the video: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rting date?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Blitzkrieg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Blitz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nger Plan/Lebensraum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talingrad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anadian involvement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mo Homini Lupus (destruction)</a:t>
            </a:r>
            <a:endParaRPr b="0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's</dc:creator>
  <dc:description/>
  <dc:language>en-US</dc:language>
  <cp:lastModifiedBy>Kuenzi, Robert</cp:lastModifiedBy>
  <dcterms:modified xsi:type="dcterms:W3CDTF">2014-05-13T19:31:47Z</dcterms:modified>
  <cp:revision>24</cp:revision>
  <dc:subject/>
  <dc:title>World Wa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31033</vt:lpwstr>
  </property>
</Properties>
</file>